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FD6-8610-4FA0-AA18-ADA83771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3FF-86EB-4F25-9EB8-E7EDAFC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3F6-90EE-4762-B280-46FE3ABE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286-6F25-42D9-8502-87488046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05E-649D-45DE-9373-5728C72B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281-BEBB-455D-BAAE-AB66B5D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034-19DF-4671-807C-2F93855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E6E-14C7-4ACA-81F9-BA91A58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E8F-E515-405C-B98F-727A9F4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239-2B7B-4904-83D1-4DEBABB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D68-BA00-41F6-A810-7E346B1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B8B-0F88-4770-AED8-A4D4BD3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FBB-9A58-48D6-8CE4-5DFA4C9E2A10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9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3042b"/>
                </a:solidFill>
                <a:latin typeface="Trebuchet MS"/>
                <a:cs typeface="AL-Mohanad Bold"/>
              </a:rPr>
              <a:t>الملتقى الأول للتجارب المتميز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3042b"/>
                </a:solidFill>
                <a:latin typeface="Times New Roman"/>
                <a:cs typeface="AL-Mohanad Bold"/>
              </a:rPr>
              <a:t>الملتقى الأول للتجارب المتميز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4076640"/>
            <a:ext cx="64008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3042b"/>
                </a:solidFill>
                <a:latin typeface="Trebuchet MS"/>
                <a:cs typeface="AL-Mohanad Bold"/>
              </a:rPr>
              <a:t>جامعة المجم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3042b"/>
                </a:solidFill>
                <a:latin typeface="Trebuchet MS"/>
                <a:cs typeface="AL-Mohanad Bold"/>
              </a:rPr>
              <a:t>الاثنين </a:t>
            </a:r>
            <a:r>
              <a:rPr b="1" lang="ar-SA" sz="3200" spc="-1" strike="noStrike">
                <a:solidFill>
                  <a:srgbClr val="03042b"/>
                </a:solidFill>
                <a:latin typeface="Trebuchet MS"/>
                <a:ea typeface="AL-Mohanad Bold"/>
              </a:rPr>
              <a:t>11</a:t>
            </a:r>
            <a:r>
              <a:rPr b="1" lang="ar-SA" sz="3200" spc="-1" strike="noStrike">
                <a:solidFill>
                  <a:srgbClr val="03042b"/>
                </a:solidFill>
                <a:latin typeface="Trebuchet MS"/>
                <a:ea typeface="AL-Mohanad Bold"/>
              </a:rPr>
              <a:t> صفر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ohanad Bold"/>
              </a:rPr>
              <a:t>1434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ohanad Bold"/>
              </a:rPr>
              <a:t>ه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C:\Users\o.okasha\Desktop\الملتقى\Untitled-2.jpg"/>
          <p:cNvPicPr/>
          <p:nvPr/>
        </p:nvPicPr>
        <p:blipFill>
          <a:blip r:embed="rId1"/>
          <a:stretch/>
        </p:blipFill>
        <p:spPr>
          <a:xfrm>
            <a:off x="4059360" y="828720"/>
            <a:ext cx="950760" cy="6825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8" descr="majmaah-logo.png"/>
          <p:cNvPicPr/>
          <p:nvPr/>
        </p:nvPicPr>
        <p:blipFill>
          <a:blip r:embed="rId2"/>
          <a:stretch/>
        </p:blipFill>
        <p:spPr>
          <a:xfrm>
            <a:off x="6875640" y="692280"/>
            <a:ext cx="1771560" cy="866520"/>
          </a:xfrm>
          <a:prstGeom prst="rect">
            <a:avLst/>
          </a:prstGeom>
          <a:ln w="0">
            <a:noFill/>
          </a:ln>
        </p:spPr>
      </p:pic>
      <p:pic>
        <p:nvPicPr>
          <p:cNvPr id="83" name="صورة 9" descr="mohe_2012_12.png"/>
          <p:cNvPicPr/>
          <p:nvPr/>
        </p:nvPicPr>
        <p:blipFill>
          <a:blip r:embed="rId3"/>
          <a:stretch/>
        </p:blipFill>
        <p:spPr>
          <a:xfrm>
            <a:off x="468360" y="765000"/>
            <a:ext cx="1990800" cy="6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508720" y="172080"/>
            <a:ext cx="3460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نتائج التجرب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27520"/>
            <a:ext cx="91440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ohanad Bold"/>
              </a:rPr>
              <a:t>من أهم نتائج التجربة اعتماد ماي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هيكل تنظيمي ع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ختصاص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نظيم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مها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ك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وظف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ائحة لتنظيم العمل للجمعي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إجراء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بقس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وار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بشر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وي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وق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شبك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نكبوت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وي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نظا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قن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بشر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سيرف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جدي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ذو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سع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تقن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ال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تطب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ohanad Bold"/>
              </a:rPr>
              <a:t>ق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نظ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ohanad Bold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بص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ohanad Bold"/>
              </a:rPr>
              <a:t>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للحضو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ohanad Bold"/>
              </a:rPr>
              <a:t>ر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والانصر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ohanad Bold"/>
              </a:rPr>
              <a:t>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5507640" y="174600"/>
            <a:ext cx="42328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نجاح التجرب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3618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) تحدي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دوا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مسئولي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ك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ر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،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ك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ر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يعرف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اذ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يتوج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عليه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يفع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م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يفعل؟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عد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خوض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ناقش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عو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الفائ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جر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عد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حدي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ئولي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)توثيق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إجراء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د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جميع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قسا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توحيده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كذلك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وحي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نماذج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تخدم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عما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إدار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احتفاظ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السجل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وثائق سه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وصو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ليه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دو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عن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) إ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التزا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بتطبيق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معايي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وجو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لوائح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محد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أنظم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دار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ذ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عملي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تدفق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سليم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ساع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بشك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أكي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نش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قاع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دار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سليم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، وبالتال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ل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رتكا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أخط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وظيف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كم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سه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إقلا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وق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لاز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لإنه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مها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)إ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ن الجو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ة ن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ج ج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د جم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ي اش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ك ف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ه ج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ع العام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ن بالجمع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، وأ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ى إ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تكو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ن علاق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 تعاو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ة لأ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ء الأع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ل 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ن الإد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ة والعام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1"/>
          <p:cNvSpPr/>
          <p:nvPr/>
        </p:nvSpPr>
        <p:spPr>
          <a:xfrm>
            <a:off x="3724200" y="692280"/>
            <a:ext cx="50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نجاح التجرب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0" y="278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575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طبيق الجو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ateen"/>
              </a:rPr>
              <a:t>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في الجمعية أ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atee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إلى إشاعة ثقافة الحز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atee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والجد واحتر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atee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العمل والأد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cs typeface="AL-Mateen"/>
              </a:rPr>
              <a:t>ء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المتميز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Clr>
                <a:srgbClr val="000000"/>
              </a:buClr>
              <a:buFont typeface="Times"/>
              <a:buAutoNum type="arabicParenR" startAt="6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رف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ستو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ول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انتم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رض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تفيد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 ورف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إنتاج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خلا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عط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عامل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حوافز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قاب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هو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تي يبذلونه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لقيا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أعمالهم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Clr>
                <a:srgbClr val="000000"/>
              </a:buClr>
              <a:buFont typeface="Times"/>
              <a:buAutoNum type="arabicParenR" startAt="6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نظام الجودة يحتوي على التدابير اللازمة للتقويم حيث يشتمل على نماذج تتطلب قياس أمور ملموسة يمكن قياسه بسهولة تمكن الجمعية من تقييم نفسها بكل وضو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5219640" y="-180000"/>
            <a:ext cx="352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شواهد تميز التجرب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821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r" rtl="1">
              <a:buClr>
                <a:srgbClr val="000000"/>
              </a:buClr>
              <a:buFont typeface="Times"/>
              <a:buAutoNum type="arabicParenR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إ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هج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نظا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إدار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شجع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حلي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تطلب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عملاء الخارجي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تعريف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ي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ساه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حقيق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حتياجاته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حفاظ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هذه العمليات تحت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سيطر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التحسي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بغرض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زيا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رص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عزيز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ض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رض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أطراف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عن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أخر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 rtl="1">
              <a:buClr>
                <a:srgbClr val="000000"/>
              </a:buClr>
              <a:buFont typeface="Times"/>
              <a:buAutoNum type="arabicParenR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ستقرا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نظا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جتماع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تكام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م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ؤد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إ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وفير</a:t>
            </a:r>
            <a:r>
              <a:rPr b="0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ثقة</a:t>
            </a:r>
            <a:r>
              <a:rPr b="0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دى</a:t>
            </a:r>
            <a:r>
              <a:rPr b="0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0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عملائها</a:t>
            </a:r>
            <a:r>
              <a:rPr b="0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بأنه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قادر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قدي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دم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و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تج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بالمتطلب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باستمرا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مكي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قيي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د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لا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قدمه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دم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ه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حصو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أيزو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ق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كو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امل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ئيس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زيا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تاج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م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شأنه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يض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جذ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اء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لحصو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ل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فضل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خدم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 rtl="1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3042b"/>
                </a:solidFill>
                <a:latin typeface="Trebuchet MS"/>
              </a:rPr>
              <a:t>وشكراً لكم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500120" y="2714760"/>
            <a:ext cx="750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مستطيل 7" descr=""/>
          <p:cNvPicPr/>
          <p:nvPr/>
        </p:nvPicPr>
        <p:blipFill>
          <a:blip r:embed="rId1"/>
          <a:stretch/>
        </p:blipFill>
        <p:spPr>
          <a:xfrm>
            <a:off x="822240" y="1212840"/>
            <a:ext cx="5950080" cy="1146240"/>
          </a:xfrm>
          <a:prstGeom prst="rect">
            <a:avLst/>
          </a:prstGeom>
          <a:ln w="0">
            <a:noFill/>
          </a:ln>
        </p:spPr>
      </p:pic>
      <p:pic>
        <p:nvPicPr>
          <p:cNvPr id="86" name="مستطيل 9" descr=""/>
          <p:cNvPicPr/>
          <p:nvPr/>
        </p:nvPicPr>
        <p:blipFill>
          <a:blip r:embed="rId2"/>
          <a:stretch/>
        </p:blipFill>
        <p:spPr>
          <a:xfrm>
            <a:off x="927000" y="2230560"/>
            <a:ext cx="728352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5580000" y="-933120"/>
            <a:ext cx="33274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اسم الجه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مستطيل 2"/>
          <p:cNvSpPr/>
          <p:nvPr/>
        </p:nvSpPr>
        <p:spPr>
          <a:xfrm>
            <a:off x="971640" y="1268280"/>
            <a:ext cx="72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جمعية أم القرى الخيرية النسائ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بمكة المكرم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638760" y="28800"/>
            <a:ext cx="229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اسم التجرب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-3273120"/>
            <a:ext cx="9144000" cy="11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نشاء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وتطوير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نظام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جودة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في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جمعية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أم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رى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خيرية</a:t>
            </a:r>
            <a:r>
              <a:rPr b="1" lang="ar-SA" sz="48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سائ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مستطيل 3"/>
          <p:cNvSpPr/>
          <p:nvPr/>
        </p:nvSpPr>
        <p:spPr>
          <a:xfrm>
            <a:off x="1619280" y="3013200"/>
            <a:ext cx="612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رئيسة مجلس إدارة الجمعي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د . هانم بنت حامد ياركن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5508720" y="-345960"/>
            <a:ext cx="380664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أهمية التجربة</a:t>
            </a: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atee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6184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) تحقيق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كا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حيث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جتم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جهو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ظم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المواهب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الخبر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) زياد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ض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فيد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ول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امل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المساهم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ذو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لاق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) رف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ستو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إنتاج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فض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كاليف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لا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قلي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أخط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) اختصا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نجاز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هم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فض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دل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ذم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)رف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امل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ف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م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ينعكس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إيجاباً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نجازه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) تحقيق درجة صفر من الأخطاء والعيوب في أداء الجم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5651640" y="-132480"/>
            <a:ext cx="3697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أهداف التجرب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51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قد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نوع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تسع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طموح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فئ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تفيد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نشط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خدماته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صور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تطلب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ع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خلا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نظي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دار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لائ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أنظم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إجراء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ع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كث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عال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م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هذ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نطلق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سع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باحث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بوض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هدف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ستراتيج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له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نذ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وليه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ها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رئاس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ف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دورتها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ثالث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الثلاثين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بتاريخ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\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\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1430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هـ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وافق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\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\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200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،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هو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سع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لتحقيق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شرو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إنشاء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تطوي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نظا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جود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إدار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للجمع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للتوافق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ع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متطلب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واصف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قياس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عالمي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ISO 9001 : 2008</a:t>
            </a:r>
            <a:r>
              <a:rPr b="1" lang="en-US" sz="32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0" y="623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  <a:cs typeface="AL-Mohanad Bold"/>
              </a:rPr>
              <a:t>المراحل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L-Mohanad Bold"/>
                <a:ea typeface="Arial"/>
              </a:rPr>
              <a:t> الثلاث لإجراءات التنفيذ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  <a:ea typeface="AL-Mohanad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خطوات المرحلة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ولى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نظي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اري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نظم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إجراءات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مل</a:t>
            </a:r>
            <a:r>
              <a:rPr b="1" lang="ar-SA" sz="32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39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أول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دراس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حليل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شخيص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لوضع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اخلي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لجمع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ثاني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هيك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نظيمي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ثالث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عداد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هام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ظيف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ك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وظف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مهيد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عم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صف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ظيفي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رابع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عداد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ائح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نفيذ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تنظيم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م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خامس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عاد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كتاب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عقود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جميع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وظفات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جمع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سادس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نجاز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دلي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لعم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إجراءاته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في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جميع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راكز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جمع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سابع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نجاز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لائح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إجراءات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مل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بقسم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وارد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بشري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ثامنا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: 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الاستفاد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التقنيات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الحديث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والإنترنت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في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تطبيق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honar Bangla"/>
                <a:cs typeface="AL-Mohanad Bold"/>
              </a:rPr>
              <a:t>التجربة</a:t>
            </a:r>
            <a:r>
              <a:rPr b="1" lang="ar-SA" sz="2800" spc="-1" strike="noStrike">
                <a:solidFill>
                  <a:srgbClr val="000000"/>
                </a:solidFill>
                <a:latin typeface="AL-Mohanad Bold"/>
                <a:ea typeface="AL-Mohanad Bold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1252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خطوات المرحل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لثاني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: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نشر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ثقاف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لجود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ن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حقيق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يتطل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عي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عامل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بأهم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قناعته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تام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بذلك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وهذا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طلب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ضرور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نشر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ثقاف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،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حيث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قام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بما يلي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أولا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: 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تقديم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محاضرات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للمسئولات</a:t>
            </a:r>
            <a:r>
              <a:rPr b="1" lang="ar-SA" sz="36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ثانيا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 :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وضع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رؤي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وأهداف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لج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L-Mateen"/>
              </a:rPr>
              <a:t> ثالثا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: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طلب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عرض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أسعار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من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ثلاث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شركات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للجودة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مستطيل 2"/>
          <p:cNvSpPr/>
          <p:nvPr/>
        </p:nvSpPr>
        <p:spPr>
          <a:xfrm>
            <a:off x="3898800" y="836640"/>
            <a:ext cx="52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mbria"/>
                <a:cs typeface="AL-Mohanad Bold"/>
              </a:rPr>
              <a:t>إجراءات التنفي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"/>
          <p:cNvSpPr/>
          <p:nvPr/>
        </p:nvSpPr>
        <p:spPr>
          <a:xfrm>
            <a:off x="3898800" y="404640"/>
            <a:ext cx="49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mbria"/>
                <a:cs typeface="AL-Mateen"/>
              </a:rPr>
              <a:t>إجراءات التنفي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1134000"/>
            <a:ext cx="9144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خطوات المرحل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لثالث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تفاق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إنشاء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وتطوير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نظا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الجود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L-Mateen"/>
              </a:rPr>
              <a:t>للجمع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م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عقد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تفاق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ع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حدى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ؤسسات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ود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لتوافق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ع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تطلبات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واصف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قياسي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عالمي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-Bold"/>
                <a:ea typeface="AL-Mateen"/>
              </a:rPr>
              <a:t>ISO 9001:2008</a:t>
            </a:r>
            <a:r>
              <a:rPr b="1" lang="en-US" sz="2000" spc="-1" strike="noStrike">
                <a:solidFill>
                  <a:srgbClr val="000000"/>
                </a:solidFill>
                <a:latin typeface="TTE2BA3950t00"/>
                <a:ea typeface="AL-Mateen"/>
              </a:rPr>
              <a:t>F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ذلك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تاريخ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\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\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201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بحضور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عضاء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جلس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إدار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مسئولين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ي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ؤسسة</a:t>
            </a:r>
            <a:r>
              <a:rPr b="1" lang="ar-SA" sz="20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L-Mateen"/>
              </a:rPr>
              <a:t>تفاصيل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L-Mateen"/>
              </a:rPr>
              <a:t>مراحل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L-Mateen"/>
              </a:rPr>
              <a:t>التنفيذ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L-Mohanad Bold"/>
                <a:ea typeface="AL-Mateen"/>
              </a:rPr>
              <a:t> :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رحل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قييم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أنشط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ود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طبق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دى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جمعية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رحلة تدريب كوادر الجمعية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رحلة التطوير وإنشاء وثائق الجودة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عداد دليل الجودة 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: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عداد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إجراء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والعمليات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نشاء تعليمات العمل   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إنشاء خطط الجودة 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  مرحلة التطبيق والتأهيل للاعتماد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78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رحلة التسجيل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AL-Mohanad Bold"/>
                <a:ea typeface="AL-Matee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8:53:38Z</dcterms:created>
  <dc:creator>o.okasha</dc:creator>
  <dc:description/>
  <cp:keywords>Education</cp:keywords>
  <dc:language>en-US</dc:language>
  <cp:lastModifiedBy>o.okasha</cp:lastModifiedBy>
  <dcterms:modified xsi:type="dcterms:W3CDTF">2012-12-22T05:56:09Z</dcterms:modified>
  <cp:revision>38</cp:revision>
  <dc:subject>Template Ready</dc:subject>
  <dc:title>الشريحة 1</dc:title>
</cp:coreProperties>
</file>